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E7485-84B5-413A-B6D9-4DFA09E10DF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9B39B-69F4-4EA1-95D5-0B536F8ADCD4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100C3-73FC-431B-B9D8-891BC0E40A72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과학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의 의미에서 객관적이라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1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의 의미에서도 객관적이라고 간주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F915C-A115-4D42-9183-9585B57FEC5B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AIDS vs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유방암 연구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연구 윤리 기준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임상 연구의 경우 환자에게 어떤 약을 투약했는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위약을 주었는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고지를 해야 하는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)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사회적 가치가 무슨 이론을 믿을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수용할지 거부할지를 결정해준다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것은 과학의 객관성 훼손하는 것 아닌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왜냐하면 과학자가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사실이 인도하지 않는 방향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비합리적인 믿음을 가지게 될 수 있기 때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29206-F381-4773-880A-B3A482A2A8CC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Arial"/>
                <a:ea typeface="굴림"/>
              </a:rPr>
              <a:t>Trofim Lysenko (1898-1976): Ukrainian botanis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Arial"/>
                <a:ea typeface="굴림"/>
              </a:rPr>
              <a:t>Opposed to classical (Mendelian) genetics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Arial"/>
                <a:ea typeface="굴림"/>
              </a:rPr>
              <a:t>Environment determines dominant genetic traits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f8f8f8"/>
                </a:solidFill>
                <a:latin typeface="Arial"/>
                <a:ea typeface="굴림"/>
              </a:rPr>
              <a:t>Content</a:t>
            </a:r>
            <a:r>
              <a:rPr b="0" lang="en-GB" sz="1200" spc="-1" strike="noStrike">
                <a:solidFill>
                  <a:srgbClr val="f8f8f8"/>
                </a:solidFill>
                <a:latin typeface="Arial"/>
                <a:ea typeface="굴림"/>
              </a:rPr>
              <a:t> of his theory conforms to interpretations of Marxist political thought under Stalin, and social demands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A82FD-EE86-416C-A8B2-E10D25018427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FB23-208E-443E-8471-06EE6C749B30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우생학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골상학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…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A7278-6640-4B9B-B7D8-0B0CF6E058DA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BA6ED-73AA-4704-BA7E-387D14B923AB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천동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vs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지동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플로지스톤 이론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vs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산소 연소 이론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E6516-062E-43D6-B3A5-C2E250AC82B1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3137-089D-47BF-8485-6CAA50819A28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C92CD-4964-4A39-96E6-86A908AE26B5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성소수자를 질병으로 취급하는 것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91739-36B9-415D-BCEF-83B4734437A5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76E02-29D1-4D08-B4F9-B821A78D5756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당시 별로 경쟁적이지 않았던 러시아에서는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생존경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라는 개념 자체가 이해 안되기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2BA29-4F00-4C59-AD2B-2DD44CF83CEA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E6DDC-383A-4B7F-B69E-6C7BE5375A4A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45C4D-C377-42AE-BCD1-5E744BCF1179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4AAFE-FF3D-4CF6-9476-16376FA9E34E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F9AE3-3EA6-4B83-B10C-B6E689F984E9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7DCCB-1D4B-4A43-B47E-2191E85A8E3E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eef9f4"/>
                </a:solidFill>
                <a:latin typeface="Arial Unicode MS"/>
                <a:ea typeface="Arial Unicode MS"/>
              </a:rPr>
              <a:t>시간</a:t>
            </a:r>
            <a:r>
              <a:rPr b="0" lang="en-US" sz="1200" spc="-1" strike="noStrike">
                <a:solidFill>
                  <a:srgbClr val="eef9f4"/>
                </a:solidFill>
                <a:latin typeface="Arial Unicode MS"/>
                <a:ea typeface="Arial Unicode MS"/>
              </a:rPr>
              <a:t>, </a:t>
            </a:r>
            <a:r>
              <a:rPr b="0" lang="ko-KR" sz="1200" spc="-1" strike="noStrike">
                <a:solidFill>
                  <a:srgbClr val="eef9f4"/>
                </a:solidFill>
                <a:latin typeface="Arial Unicode MS"/>
                <a:ea typeface="Arial Unicode MS"/>
              </a:rPr>
              <a:t>장소</a:t>
            </a:r>
            <a:r>
              <a:rPr b="0" lang="en-US" sz="1200" spc="-1" strike="noStrike">
                <a:solidFill>
                  <a:srgbClr val="eef9f4"/>
                </a:solidFill>
                <a:latin typeface="Arial Unicode MS"/>
                <a:ea typeface="Arial Unicode MS"/>
              </a:rPr>
              <a:t>, </a:t>
            </a:r>
            <a:r>
              <a:rPr b="0" lang="ko-KR" sz="1200" spc="-1" strike="noStrike">
                <a:solidFill>
                  <a:srgbClr val="eef9f4"/>
                </a:solidFill>
                <a:latin typeface="Arial Unicode MS"/>
                <a:ea typeface="Arial Unicode MS"/>
              </a:rPr>
              <a:t>문화에 따라 다름</a:t>
            </a:r>
            <a:r>
              <a:rPr b="0" lang="en-US" sz="1200" spc="-1" strike="noStrike">
                <a:solidFill>
                  <a:srgbClr val="eef9f4"/>
                </a:solidFill>
                <a:latin typeface="Arial Unicode MS"/>
                <a:ea typeface="Arial Unicode MS"/>
              </a:rPr>
              <a:t>. </a:t>
            </a:r>
            <a:r>
              <a:rPr b="0" lang="ko-KR" sz="1200" spc="-1" strike="noStrike">
                <a:solidFill>
                  <a:srgbClr val="eef9f4"/>
                </a:solidFill>
                <a:latin typeface="Arial Unicode MS"/>
                <a:ea typeface="Arial Unicode MS"/>
              </a:rPr>
              <a:t>즉 </a:t>
            </a:r>
            <a:r>
              <a:rPr b="0" lang="en-US" sz="1200" spc="-1" strike="noStrike">
                <a:solidFill>
                  <a:srgbClr val="eef9f4"/>
                </a:solidFill>
                <a:latin typeface="Arial Unicode MS"/>
                <a:ea typeface="Arial Unicode MS"/>
              </a:rPr>
              <a:t>‘</a:t>
            </a:r>
            <a:r>
              <a:rPr b="0" lang="ko-KR" sz="1200" spc="-1" strike="noStrike">
                <a:solidFill>
                  <a:srgbClr val="eef9f4"/>
                </a:solidFill>
                <a:latin typeface="Arial Unicode MS"/>
                <a:ea typeface="Arial Unicode MS"/>
              </a:rPr>
              <a:t>맥락에 따라</a:t>
            </a:r>
            <a:r>
              <a:rPr b="0" lang="en-US" sz="1200" spc="-1" strike="noStrike">
                <a:solidFill>
                  <a:srgbClr val="eef9f4"/>
                </a:solidFill>
                <a:latin typeface="Arial Unicode MS"/>
                <a:ea typeface="Arial Unicode MS"/>
              </a:rPr>
              <a:t>’ </a:t>
            </a:r>
            <a:r>
              <a:rPr b="0" lang="ko-KR" sz="1200" spc="-1" strike="noStrike">
                <a:solidFill>
                  <a:srgbClr val="eef9f4"/>
                </a:solidFill>
                <a:latin typeface="Arial Unicode MS"/>
                <a:ea typeface="Arial Unicode MS"/>
              </a:rPr>
              <a:t>다름</a:t>
            </a:r>
            <a:r>
              <a:rPr b="0" lang="en-US" sz="1200" spc="-1" strike="noStrike">
                <a:solidFill>
                  <a:srgbClr val="eef9f4"/>
                </a:solidFill>
                <a:latin typeface="Arial Unicode MS"/>
                <a:ea typeface="Arial Unicode MS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eef9f4"/>
                </a:solidFill>
                <a:latin typeface="Arial Unicode MS"/>
                <a:ea typeface="Arial Unicode MS"/>
              </a:rPr>
              <a:t>예</a:t>
            </a:r>
            <a:r>
              <a:rPr b="0" lang="en-US" sz="1200" spc="-1" strike="noStrike">
                <a:solidFill>
                  <a:srgbClr val="eef9f4"/>
                </a:solidFill>
                <a:latin typeface="Arial Unicode MS"/>
                <a:ea typeface="Arial Unicode MS"/>
              </a:rPr>
              <a:t>: </a:t>
            </a:r>
            <a:r>
              <a:rPr b="0" lang="ko-KR" sz="1200" spc="-1" strike="noStrike">
                <a:solidFill>
                  <a:srgbClr val="eef9f4"/>
                </a:solidFill>
                <a:latin typeface="Arial Unicode MS"/>
                <a:ea typeface="Arial Unicode MS"/>
              </a:rPr>
              <a:t>정치적 지향</a:t>
            </a:r>
            <a:r>
              <a:rPr b="0" lang="en-US" sz="1200" spc="-1" strike="noStrike">
                <a:solidFill>
                  <a:srgbClr val="eef9f4"/>
                </a:solidFill>
                <a:latin typeface="Arial Unicode MS"/>
                <a:ea typeface="Arial Unicode MS"/>
              </a:rPr>
              <a:t>, </a:t>
            </a:r>
            <a:r>
              <a:rPr b="0" lang="ko-KR" sz="1200" spc="-1" strike="noStrike">
                <a:solidFill>
                  <a:srgbClr val="eef9f4"/>
                </a:solidFill>
                <a:latin typeface="Arial Unicode MS"/>
                <a:ea typeface="Arial Unicode MS"/>
              </a:rPr>
              <a:t>자유</a:t>
            </a:r>
            <a:r>
              <a:rPr b="0" lang="en-US" sz="1200" spc="-1" strike="noStrike">
                <a:solidFill>
                  <a:srgbClr val="eef9f4"/>
                </a:solidFill>
                <a:latin typeface="Arial Unicode MS"/>
                <a:ea typeface="Arial Unicode MS"/>
              </a:rPr>
              <a:t>, </a:t>
            </a:r>
            <a:r>
              <a:rPr b="0" lang="ko-KR" sz="1200" spc="-1" strike="noStrike">
                <a:solidFill>
                  <a:srgbClr val="eef9f4"/>
                </a:solidFill>
                <a:latin typeface="Arial Unicode MS"/>
                <a:ea typeface="Arial Unicode MS"/>
              </a:rPr>
              <a:t>평등</a:t>
            </a:r>
            <a:r>
              <a:rPr b="0" lang="en-US" sz="1200" spc="-1" strike="noStrike">
                <a:solidFill>
                  <a:srgbClr val="eef9f4"/>
                </a:solidFill>
                <a:latin typeface="Arial Unicode MS"/>
                <a:ea typeface="Arial Unicode MS"/>
              </a:rPr>
              <a:t>, </a:t>
            </a:r>
            <a:r>
              <a:rPr b="0" lang="ko-KR" sz="1200" spc="-1" strike="noStrike">
                <a:solidFill>
                  <a:srgbClr val="eef9f4"/>
                </a:solidFill>
                <a:latin typeface="Arial Unicode MS"/>
                <a:ea typeface="Arial Unicode MS"/>
              </a:rPr>
              <a:t>정의</a:t>
            </a:r>
            <a:r>
              <a:rPr b="0" lang="en-US" sz="1200" spc="-1" strike="noStrike">
                <a:solidFill>
                  <a:srgbClr val="eef9f4"/>
                </a:solidFill>
                <a:latin typeface="Arial Unicode MS"/>
                <a:ea typeface="Arial Unicode MS"/>
              </a:rPr>
              <a:t> </a:t>
            </a:r>
            <a:r>
              <a:rPr b="0" lang="ko-KR" sz="1200" spc="-1" strike="noStrike">
                <a:solidFill>
                  <a:srgbClr val="eef9f4"/>
                </a:solidFill>
                <a:latin typeface="Arial Unicode MS"/>
                <a:ea typeface="Arial Unicode MS"/>
              </a:rPr>
              <a:t>등에 관한 가치</a:t>
            </a:r>
            <a:r>
              <a:rPr b="0" lang="en-US" sz="1200" spc="-1" strike="noStrike">
                <a:solidFill>
                  <a:srgbClr val="eef9f4"/>
                </a:solidFill>
                <a:latin typeface="Arial Unicode MS"/>
                <a:ea typeface="Arial Unicode MS"/>
              </a:rPr>
              <a:t>, </a:t>
            </a:r>
            <a:r>
              <a:rPr b="0" lang="ko-KR" sz="1200" spc="-1" strike="noStrike">
                <a:solidFill>
                  <a:srgbClr val="eef9f4"/>
                </a:solidFill>
                <a:latin typeface="Arial Unicode MS"/>
                <a:ea typeface="Arial Unicode MS"/>
              </a:rPr>
              <a:t>도덕적 가치</a:t>
            </a:r>
            <a:r>
              <a:rPr b="0" lang="en-US" sz="1200" spc="-1" strike="noStrike">
                <a:solidFill>
                  <a:srgbClr val="eef9f4"/>
                </a:solidFill>
                <a:latin typeface="Arial Unicode MS"/>
                <a:ea typeface="Arial Unicode MS"/>
              </a:rPr>
              <a:t>, </a:t>
            </a:r>
            <a:r>
              <a:rPr b="0" lang="ko-KR" sz="1200" spc="-1" strike="noStrike">
                <a:solidFill>
                  <a:srgbClr val="eef9f4"/>
                </a:solidFill>
                <a:latin typeface="Arial Unicode MS"/>
                <a:ea typeface="Arial Unicode MS"/>
              </a:rPr>
              <a:t>미적 가치</a:t>
            </a:r>
            <a:r>
              <a:rPr b="0" lang="en-US" sz="1200" spc="-1" strike="noStrike">
                <a:solidFill>
                  <a:srgbClr val="eef9f4"/>
                </a:solidFill>
                <a:latin typeface="Arial Unicode MS"/>
                <a:ea typeface="Arial Unicode MS"/>
              </a:rPr>
              <a:t>, </a:t>
            </a:r>
            <a:r>
              <a:rPr b="0" lang="ko-KR" sz="1200" spc="-1" strike="noStrike">
                <a:solidFill>
                  <a:srgbClr val="eef9f4"/>
                </a:solidFill>
                <a:latin typeface="Arial Unicode MS"/>
                <a:ea typeface="Arial Unicode MS"/>
              </a:rPr>
              <a:t>성역할에 대한 가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AAC02-3D2E-426C-89AA-6A38244E3F8A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F7CA2-1859-462D-A21D-7466AB93F55D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B0BD6-F564-4EA5-B54B-B8857F0E08ED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DA5E9-423B-4777-A1D6-C5CE51AA83EC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569B-B72B-445D-B244-DA6E5ED90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559F-B6AE-447F-8DBF-B207B1879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7057-DE21-429C-8E30-2C0F296D6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64FB-2C33-4781-84C5-1D3086D86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785B-B93D-4A47-A313-8D1BBD5E1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49FF-9D29-44E6-B3FB-6815DD405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3B51-17D6-41E5-9C29-CA1569BAE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832B-E121-4477-A210-6BC5A79D1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5074-172E-48C9-A45D-53B7F1603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EF58-ACB6-4E85-A84D-94B1E6CB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E5C8-13DE-4E54-9376-C75F9841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2D23-08B5-432C-917F-9A3B7382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fc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fc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fc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Georgia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60135-93BA-4052-A242-EF74203D5F1B}" type="slidenum">
              <a:rPr b="0" lang="ko-KR" sz="1200" spc="-1" strike="noStrike">
                <a:solidFill>
                  <a:srgbClr val="ffffff"/>
                </a:solidFill>
                <a:latin typeface="Georgia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000"/>
                </a:solidFill>
                <a:latin typeface="Trebuchet MS"/>
              </a:rPr>
              <a:t>과학의 사회적 구성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객관적 믿음 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vs. 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비객관적 믿음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전통적인 답변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)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객관적 믿음은 사실에 의해 정당화된 믿음이지만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비객관적 믿음은 사실과 무관한 가치들로 인해 가지게 된 믿음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객관성이란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ffc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진리 대응설 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: 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진술은 그것이 사실과 대응될 때 오직 그 때에만 참이다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. 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514440" indent="-514440">
              <a:spcBef>
                <a:spcPts val="601"/>
              </a:spcBef>
              <a:buClr>
                <a:srgbClr val="ffc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과학은 가치중립적 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: 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사회적 가치는 과학에서 하는 역할이 없다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없어야 한다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). 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그래서 과학 이론은 오직 실험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/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관찰 증거에 기초해서만 수용된다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수용돼야 한다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).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사회적 가치는 과학에 어떤 영향을 미칠 수 있을까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649"/>
              </a:spcBef>
              <a:buClr>
                <a:srgbClr val="ffc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무엇을 연구할지를 결정해줄 수 있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514440" indent="-514440" algn="ctr">
              <a:spcBef>
                <a:spcPts val="649"/>
              </a:spcBef>
              <a:buClr>
                <a:srgbClr val="ffc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어떻게 연구할지를 결정해줄 수 있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514440" indent="-514440" algn="ctr">
              <a:spcBef>
                <a:spcPts val="649"/>
              </a:spcBef>
              <a:buClr>
                <a:srgbClr val="ffc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 u="sng">
                <a:solidFill>
                  <a:srgbClr val="ffc000"/>
                </a:solidFill>
                <a:uFillTx/>
                <a:latin typeface="Georgia"/>
              </a:rPr>
              <a:t>과학적 믿음의 내용을 결정해줄 수 있다</a:t>
            </a:r>
            <a:r>
              <a:rPr b="1" lang="en-US" sz="2600" spc="-1" strike="noStrike" u="sng">
                <a:solidFill>
                  <a:srgbClr val="ffc000"/>
                </a:solidFill>
                <a:uFillTx/>
                <a:latin typeface="Georgia"/>
              </a:rPr>
              <a:t>?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사례가 있는가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리센코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1898-1976)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와 소련의 유전학 연구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형질에 대한 환경 결정 및 획득형질의 유전 주장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맑스주의 철학과 사회적 요구에 부합하는 이론 선택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1700280"/>
            <a:ext cx="77724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349992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76" name="Picture 2" descr="Lamarck-Darwin"/>
          <p:cNvPicPr/>
          <p:nvPr/>
        </p:nvPicPr>
        <p:blipFill>
          <a:blip r:embed="rId1"/>
          <a:stretch/>
        </p:blipFill>
        <p:spPr>
          <a:xfrm>
            <a:off x="0" y="1052640"/>
            <a:ext cx="91645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즉 사회적 가치는 과학의 객관성을 훼손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하지만 사회적 가치의 영향을 어떻게 차단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해법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649"/>
              </a:spcBef>
              <a:buClr>
                <a:srgbClr val="ffc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발견 단계에서부터 사회적 영향을 차단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514440" indent="-514440" algn="ctr">
              <a:spcBef>
                <a:spcPts val="649"/>
              </a:spcBef>
              <a:buClr>
                <a:srgbClr val="ffc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이론 선택 단계에서만 사회적 영향 차단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문제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22160" y="3933720"/>
            <a:ext cx="77724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649"/>
              </a:spcBef>
              <a:buClr>
                <a:srgbClr val="ffc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관찰의 이론의존성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514440" indent="-514440" algn="ctr">
              <a:spcBef>
                <a:spcPts val="649"/>
              </a:spcBef>
              <a:buClr>
                <a:srgbClr val="ffc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증거에 의한 이론미결정성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514440"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51444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경험적 증거에 의해 이론이 결정될 수 없다면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사회적 요인에 의해 </a:t>
            </a:r>
            <a:br>
              <a:rPr sz="4000"/>
            </a:b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논쟁 종결 또는 논쟁 지속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과학 이론은 사회적 타협의 산물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실패한 과학뿐 아니라 성공한 과학조차도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!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태양중심설 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vs. 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지구중심설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17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세기 중엽이면 태양중심설 널리 수용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그러나 태양중심설의 명백한 증거는 없었음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그렇다면 무엇이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사회적 구성의 여러 사례들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정신병의 사회적 구성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주류경제학의 사회적 구성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맑스경제학의 사회적 구성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여성성의 사회적 구성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…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플로지스톤 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vs. 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산소 연소 이론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29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1880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년대면 산소 연소 이론 대부분 수용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그러나 플로지스톤 이론에 기초한 해석도 가능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그렇다면 무엇이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 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민주주의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이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-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실험 관계에 대한 가치 평가가 관건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다윈주의 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vs. 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라마르크주의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19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세기까지는 획득형질 유전 여부에 관한 증거 없음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핀치의 적응적 진화는 둘 모두 설명 가능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그렇다면 무엇이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극도로 경쟁적이었던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19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세기 영국 사회가 영향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고전역학 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vs. 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양자역학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1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차세계대전에서 패배한 독일의 상황이</a:t>
            </a:r>
            <a:br>
              <a:rPr sz="2600"/>
            </a:b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결정론적 물리학에 적대적이도록 만듦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Trebuchet MS"/>
              </a:rPr>
              <a:t>읽을거리와 질문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이상욱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, “</a:t>
            </a: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대칭과 구성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: </a:t>
            </a: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과학지식사회학의 딜레마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”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1" marL="971640" indent="-514440">
              <a:spcBef>
                <a:spcPts val="700"/>
              </a:spcBef>
              <a:buClr>
                <a:srgbClr val="ffc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사회구성주의자들은 반과학적인가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1" marL="971640" indent="-514440">
              <a:spcBef>
                <a:spcPts val="700"/>
              </a:spcBef>
              <a:buClr>
                <a:srgbClr val="ffc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저자는 사회구성주의자들의 얘기가 어떤 면에서 과장되었다고 주장하고 있는가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? 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저자의 주장에 동의하는가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사고는 사회적 가치를 반영한다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.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마르크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만하임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뒤르켐 등의 주장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맬서스의 주장은 지주의 이해를 대변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리카도의 주장은 자본가의 이해를 대변 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…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자연과학은 예외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과학은 객관적인가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과학의 객관성은 어떻게 보장될 수 있는가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사회적 가치는 과학의 객관성을 훼손하는가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사회적 가치가 과학에 결정적인 영향을 미치는가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사회적 가치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개인이나 사회가 가진 주관적 믿음의 일종으로서 </a:t>
            </a:r>
            <a:br>
              <a:rPr sz="2600"/>
            </a:b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사실에 의존하지 않는 선호도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이해관계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이데올로기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과학은 그 사회적 맥락으로부터 독립되어 있을까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1. 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당연히 아님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(trivial sense)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과학은 사회적 활동이며 과학자는 공동체에 소속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그러나 이 자체는 과학적 객관성에 위협이 되진 않음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2. 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당연히 아님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(non-trivial sense)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과학이 사회적 맥락으로부터 사소하지 않은 방식으로 독립되어 있지 않다면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과학의 객관성은 의심 가능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1T12:31:23Z</dcterms:created>
  <dc:creator>zolaist</dc:creator>
  <dc:description/>
  <dc:language>en-US</dc:language>
  <cp:lastModifiedBy>zolaist</cp:lastModifiedBy>
  <dcterms:modified xsi:type="dcterms:W3CDTF">2011-05-15T09:20:08Z</dcterms:modified>
  <cp:revision>32</cp:revision>
  <dc:subject/>
  <dc:title>과학의 사회적 구성</dc:title>
</cp:coreProperties>
</file>